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2A7-434A-4CC3-A72E-930B12AC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324-A448-48EA-A66C-204491A4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54B-C334-4AD4-A5D2-CBDC255F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1BF-6C80-40B3-AB31-34DD1288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188-44B1-48E5-918E-4676830F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6899-87DD-40D6-B32F-DB85E9ED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5C1-4D67-49A8-9580-F1521F93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E2E-B0E5-4AE7-B4E9-82B62E56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ABFA-8E8B-4925-BE27-CD9206A6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4B55-DBCB-4B3A-BFA0-3B7B40BB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D46A-75DC-4235-B4ED-3CB1C9FF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343-AFA3-4CC4-8CCD-8BC73273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A671-AB22-4632-9471-AB72F92A3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71 Nepoznáme, drahý Kris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poznáme, drahý Kris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ú vzácnu hodin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i v moci prídeš is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emskú vziať rodinu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všetci vykúp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li navždy s tebou t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ich slávou ozdobený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víta Boh Otec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, kto nádej uprie smel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vlasti, ktorej zrieť smie bre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má vždy túžbu vrel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ončiť slávne žitia be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sa k tebe vierou vi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lo Slova vedie 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tme sveta nezahy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ateľa má verné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stavične teda bde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edujme reč znam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ru, nádej posiluj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ou láskou spoj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náš Pán osláve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ráti a nás pozdrav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ých svojich vykúpený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čným vencom osláv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39:31Z</dcterms:created>
  <dc:creator>MD</dc:creator>
  <dc:description/>
  <dc:language>en-US</dc:language>
  <cp:lastModifiedBy>MD</cp:lastModifiedBy>
  <dcterms:modified xsi:type="dcterms:W3CDTF">2000-12-12T16:51:33Z</dcterms:modified>
  <cp:revision>2</cp:revision>
  <dc:subject/>
  <dc:title>Bez nadpisu</dc:title>
</cp:coreProperties>
</file>